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7.png" ContentType="image/png"/>
  <Override PartName="/ppt/media/image4.png" ContentType="image/png"/>
  <Override PartName="/ppt/media/image3.wmf" ContentType="image/x-wmf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BAE3-4B97-481D-A205-8C3E598C1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8B87-E14E-429D-A8B8-1DA00F3D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ABB4-42AF-417E-A586-6CAF64A02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3CBD-9704-40B8-A697-9C140E251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DFAD9-792D-4A84-8356-F1A6C8E55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80A8-A8C4-4BB0-AEEB-3C166A45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2E942-4E34-4905-83E4-3301E607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E0A1-5B2E-44F4-8FEE-7B46F451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74B3-6DAB-4378-8DAA-296A2B22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49DE-E794-4A01-84C1-C0BFA925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03C2-B648-4537-B7FC-80EE163C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5824-D6D7-45CE-B6CB-4F2CC405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D7DE-10CE-46A3-9497-52C0214C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CE0B-6023-4C76-8B5E-821C5A60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6EAF-8BE5-4F14-83BA-5C9205E2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90A6-F6DE-4B88-87DB-E59C68F97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39FD8-95EE-4AA4-94C6-1190F6410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42EA-29F0-4717-BAE4-11C3934C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E79F-98EF-40FF-911E-3E7D184B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9F65-C1C4-47C1-9ABA-29456912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D7B4-7A09-4600-A46C-A0B87AC4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482B-24CE-495D-96AF-FF9A1D6D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9ABD-E57D-48EC-A794-C1A84B74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B4D1-967F-474A-82B9-F127116F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666A-020F-4454-A641-5788CDCAE100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30D8-BEAB-42CC-AA0F-3313BD6192F8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hhubertova@vati.hu" TargetMode="External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</a:t>
            </a:r>
            <a:br>
              <a:rPr sz="3600"/>
            </a:b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Front Office Pályázati Modu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898989"/>
                </a:solidFill>
                <a:latin typeface="Calibri"/>
              </a:rPr>
              <a:t>A harmadik kiírás online felületének bemutatá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Alcím 2"/>
          <p:cNvSpPr/>
          <p:nvPr/>
        </p:nvSpPr>
        <p:spPr>
          <a:xfrm>
            <a:off x="1547640" y="5300640"/>
            <a:ext cx="64008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98989"/>
                </a:solidFill>
                <a:latin typeface="Calibri"/>
              </a:rPr>
              <a:t>(k</a:t>
            </a:r>
            <a:r>
              <a:rPr b="0" lang="hu-HU" sz="2400" spc="-1" strike="noStrike">
                <a:solidFill>
                  <a:srgbClr val="898989"/>
                </a:solidFill>
                <a:latin typeface="Calibri"/>
              </a:rPr>
              <a:t>észítette: Holop Szilveszter, JTS</a:t>
            </a:r>
            <a:r>
              <a:rPr b="0" lang="en-GB" sz="2400" spc="-1" strike="noStrike">
                <a:solidFill>
                  <a:srgbClr val="898989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zövegdoboz 7"/>
          <p:cNvSpPr/>
          <p:nvPr/>
        </p:nvSpPr>
        <p:spPr>
          <a:xfrm>
            <a:off x="5429160" y="164304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– 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 – 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iválasztás után megjelenik a PARTNERSHIP képernyő, amely három fület tartalmaz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ás (Identific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pviselők (Representativ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Üzleti adatok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 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2"/>
          <a:stretch/>
        </p:blipFill>
        <p:spPr>
          <a:xfrm>
            <a:off x="642960" y="250020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zövegdoboz 7"/>
          <p:cNvSpPr/>
          <p:nvPr/>
        </p:nvSpPr>
        <p:spPr>
          <a:xfrm>
            <a:off x="6357960" y="1643040"/>
            <a:ext cx="2643120" cy="35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zövegdoboz 7"/>
          <p:cNvSpPr/>
          <p:nvPr/>
        </p:nvSpPr>
        <p:spPr>
          <a:xfrm>
            <a:off x="6500880" y="16034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ARTNERSHIP\Business 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zövegdoboz 7"/>
          <p:cNvSpPr/>
          <p:nvPr/>
        </p:nvSpPr>
        <p:spPr>
          <a:xfrm>
            <a:off x="6000840" y="1285920"/>
            <a:ext cx="30002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/Project management experience of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(utolsó lezárt üzleti é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(helyszíne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zövegdoboz 7"/>
          <p:cNvSpPr/>
          <p:nvPr/>
        </p:nvSpPr>
        <p:spPr>
          <a:xfrm>
            <a:off x="5929200" y="1643040"/>
            <a:ext cx="30006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MÓD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Value (érték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escription (leírás)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zövegdoboz 7"/>
          <p:cNvSpPr/>
          <p:nvPr/>
        </p:nvSpPr>
        <p:spPr>
          <a:xfrm>
            <a:off x="5715000" y="1643040"/>
            <a:ext cx="3214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5372280" cy="2233440"/>
          </a:xfrm>
          <a:prstGeom prst="rect">
            <a:avLst/>
          </a:prstGeom>
          <a:ln w="0">
            <a:noFill/>
          </a:ln>
        </p:spPr>
      </p:pic>
      <p:pic>
        <p:nvPicPr>
          <p:cNvPr id="126" name="Szövegdoboz 6" descr=""/>
          <p:cNvPicPr/>
          <p:nvPr/>
        </p:nvPicPr>
        <p:blipFill>
          <a:blip r:embed="rId2"/>
          <a:stretch/>
        </p:blipFill>
        <p:spPr>
          <a:xfrm>
            <a:off x="133200" y="4206960"/>
            <a:ext cx="8913960" cy="16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142920" y="292896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30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eleváns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várható költsé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zövegdoboz 10"/>
          <p:cNvSpPr/>
          <p:nvPr/>
        </p:nvSpPr>
        <p:spPr>
          <a:xfrm>
            <a:off x="6286680" y="142920"/>
            <a:ext cx="2714400" cy="56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első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só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artner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3 költségvetési fü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Source of co-financing of selected part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észletes partneri költségvetési tábláza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Detailed partner budget 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teljes előrejelzése periódusonkén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otal spending forecast for selected partner per perio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5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zövegdoboz 10"/>
          <p:cNvSpPr/>
          <p:nvPr/>
        </p:nvSpPr>
        <p:spPr>
          <a:xfrm>
            <a:off x="6286680" y="164304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servic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4) 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pment cost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"/>
          <p:cNvPicPr/>
          <p:nvPr/>
        </p:nvPicPr>
        <p:blipFill>
          <a:blip r:embed="rId2"/>
          <a:stretch/>
        </p:blipFill>
        <p:spPr>
          <a:xfrm>
            <a:off x="857160" y="3214800"/>
            <a:ext cx="3071880" cy="2068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3"/>
          <a:stretch/>
        </p:blipFill>
        <p:spPr>
          <a:xfrm>
            <a:off x="1214280" y="4143240"/>
            <a:ext cx="4929480" cy="20574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magánjogi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" descr=""/>
          <p:cNvPicPr/>
          <p:nvPr/>
        </p:nvPicPr>
        <p:blipFill>
          <a:blip r:embed="rId1"/>
          <a:stretch/>
        </p:blipFill>
        <p:spPr>
          <a:xfrm>
            <a:off x="120600" y="1673280"/>
            <a:ext cx="61642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344600"/>
            <a:ext cx="771516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Application (pályázati) mod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harmadik kiírás pályázatait az IMIR Front Office Application moduljának segítségével kell összeállítani és benyújta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Papír alapon csak - az eredeti aláírásokkal ellátott – függelék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űrlapot nem szükséges kinyomtatni, továbbá az elektronikus formában elérhető függelékek és egyéb támogató dokumentumok példányai is feltölthetőek a Front Office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modul elérhető a honlapunkon a pályázati kiírás oldalán: </a:t>
            </a:r>
            <a:r>
              <a:rPr b="0" lang="sk-SK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zövegdoboz 10"/>
          <p:cNvSpPr/>
          <p:nvPr/>
        </p:nvSpPr>
        <p:spPr>
          <a:xfrm>
            <a:off x="6286680" y="135720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e feledje, hogy a programban a visszafizetés hosszú, kétszintű folyamat, vagyis 4-5 hónap is eltelhet a kifizetett számlák benyújtásától az ellenőrző testületeknek addig, míg az ERFA támogatás összege kifizetésre kerü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10704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zövegdoboz 10"/>
          <p:cNvSpPr/>
          <p:nvPr/>
        </p:nvSpPr>
        <p:spPr>
          <a:xfrm>
            <a:off x="6286680" y="1214280"/>
            <a:ext cx="271440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áblázat a program által meghatározott mutatókat jeleníti me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odify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datory 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ther tools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3197160" cy="3214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3000240" y="3429000"/>
            <a:ext cx="56437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ERMI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 (Typ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 (Description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 (Issue dat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 (Valid until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 (ID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65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HECKLI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ANNEX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zövegdoboz 10"/>
          <p:cNvSpPr/>
          <p:nvPr/>
        </p:nvSpPr>
        <p:spPr>
          <a:xfrm>
            <a:off x="6215040" y="1643040"/>
            <a:ext cx="27860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áma (Code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íme (Name),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hogy kötelező-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Mandator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vagy sem, és hogy milyen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satornán (Channel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keresztül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gjelölheti, hogy egy adott mellékletet csatolt/elküldött-e, és ha igen, hány példány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TTACH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zövegdoboz 10"/>
          <p:cNvSpPr/>
          <p:nvPr/>
        </p:nvSpPr>
        <p:spPr>
          <a:xfrm>
            <a:off x="5429160" y="1214280"/>
            <a:ext cx="35719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ttachment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1"/>
          <a:stretch/>
        </p:blipFill>
        <p:spPr>
          <a:xfrm>
            <a:off x="142920" y="1611360"/>
            <a:ext cx="51433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ubertova Henri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Financial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hubertova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4608720" cy="1714320"/>
          </a:xfrm>
          <a:prstGeom prst="rect">
            <a:avLst/>
          </a:prstGeom>
          <a:ln w="0">
            <a:noFill/>
          </a:ln>
        </p:spPr>
      </p:pic>
      <p:sp>
        <p:nvSpPr>
          <p:cNvPr id="89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2"/>
          <a:srcRect l="31169" t="41029" r="31278" b="40959"/>
          <a:stretch/>
        </p:blipFill>
        <p:spPr>
          <a:xfrm>
            <a:off x="214200" y="428616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91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de megjegyezhető 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mentésre kerül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zövegdoboz 7"/>
          <p:cNvSpPr/>
          <p:nvPr/>
        </p:nvSpPr>
        <p:spPr>
          <a:xfrm>
            <a:off x="5429160" y="1643040"/>
            <a:ext cx="357192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UBMIT – az ellenőrzött és megfelelően kitöltött pályázato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zövegdoboz 7"/>
          <p:cNvSpPr/>
          <p:nvPr/>
        </p:nvSpPr>
        <p:spPr>
          <a:xfrm>
            <a:off x="5429160" y="1643040"/>
            <a:ext cx="3571920" cy="33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VERVIEW – 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HEETS TO FILL IN – leírhatja és részletezheti a tervezett projektet. A táblázat soraihoz úgynevezett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TTACHMETS – dokumentumok feltöltésére és létrehozására szolgá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zövegdoboz 7"/>
          <p:cNvSpPr/>
          <p:nvPr/>
        </p:nvSpPr>
        <p:spPr>
          <a:xfrm>
            <a:off x="5429160" y="1643040"/>
            <a:ext cx="35719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(Megnéz) - 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az adatok szerkesztését vagy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zövegdoboz 7"/>
          <p:cNvSpPr/>
          <p:nvPr/>
        </p:nvSpPr>
        <p:spPr>
          <a:xfrm>
            <a:off x="5429160" y="1643040"/>
            <a:ext cx="35719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- kifejező, de röv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- &gt;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 – 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 – 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ubertovahenrieta</cp:lastModifiedBy>
  <dcterms:modified xsi:type="dcterms:W3CDTF">2011-01-26T15:42:19Z</dcterms:modified>
  <cp:revision>32</cp:revision>
  <dc:subject/>
  <dc:title>1. dia</dc:title>
</cp:coreProperties>
</file>